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5F2-CAB3-470F-BE96-FE7F194D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C98-EA5F-4232-B4BC-84C620E3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627-C22B-4D1B-B5B5-10DF8B11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944-8DB3-4C7C-86FC-B31B2298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B84F-1871-4F5D-9E68-16AA15EF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4B1E-B030-44E6-9B40-D34F0C3D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111A-C253-4A98-8B98-F226599F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63AA-1E72-4078-BA78-1295A16F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CAF4-9379-467C-A5D2-92AA5589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F58E-E3F5-46F0-A520-C0FE4B1C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2126-C1EB-4D29-B31C-F0C6A5F7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207-4837-4CFF-A03E-1C07041C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607B-A9BB-4B98-B147-7594F46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B7A7-9321-48A1-A9BD-58CBA58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C607-5789-439A-B486-899C3EE4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227-E8F5-4A48-83F0-385756F8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D9E2-D5F4-4086-B29B-25513B3A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3D7-D6AD-4AE9-A806-5B4EEE0D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F9E-9318-434D-84DB-6710B934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D87-151B-4C5E-A766-B5F01B0C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A78-C8BC-404A-A881-39CEC72B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F4C-9AB1-4A5D-9514-BB1132B1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AD6-3738-4F37-B2E5-F530B5B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F03-5D12-472B-AB45-61A08FA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50F2-E751-455D-A94D-E6CAE9179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A8A4-0B76-48F2-8AC8-4DEBD00D1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Equations in On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4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 one on your 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+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542 #1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rational equations in one variable algebra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ifference between expressions and equations, as well as the different ways to solve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ation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rational expressions a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ons vs.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ressi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quati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rational equations: Clearing Equations of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both sides by the LCD to clear the equation of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the given variable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solutions in the original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fference between expressions and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rational equations: Clearing Equations of Fraction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LCD of 3, 5, and 1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oth sides by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0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5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 = 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x=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x+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20:40:30Z</dcterms:created>
  <dc:creator>nuhs</dc:creator>
  <dc:description/>
  <dc:language>en-US</dc:language>
  <cp:lastModifiedBy>nuhs</cp:lastModifiedBy>
  <dcterms:modified xsi:type="dcterms:W3CDTF">2007-10-04T19:53:16Z</dcterms:modified>
  <cp:revision>15</cp:revision>
  <dc:subject/>
  <dc:title>Algebra 2A</dc:title>
</cp:coreProperties>
</file>